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8844-2DC5-43D2-9115-9F71CE756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D22E-C877-4486-A8BC-C11331D2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2996-22E5-4C3A-A5CD-E2335C659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850D-D06C-4737-B3DE-86070F02B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748D-79A4-4BB9-A611-0E01EE5A8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91C1-A5A1-4CD4-97BE-81552DB6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F48B-A4C2-4845-AEB9-487FC106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8FEE-348B-4380-91EA-88E20BA2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409C-2BCF-4C93-A5E3-5CEEF7D7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8DD8-CF4C-4174-92EF-0B237A5A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4749-1E81-49CD-8E9B-9865F81E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CFA4-6D71-4B70-8C36-77ABCC78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F4D3-4F5E-4FEE-948C-B85198C0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0071-710D-4C48-ADD2-ADEA8BE0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EBC4-DF34-4A58-B004-C44BADC3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E6DC-EB0D-4B65-8C6D-EE3B51549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B018-7912-4DD0-A1F4-56297145C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E0BB-5445-4F48-A8E6-50D94F6F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4E69-4B00-4B09-BE19-3512DEF0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D870-D685-4468-95D0-F07E8487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34D5-1DF5-45C3-ADE4-5B4CAC25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D2BF-0592-472A-8F49-CC6DB98E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A722-306D-4D19-A07C-EB765038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3AC1-AF08-4927-BF29-7C670786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8217-FC50-4D3E-AFEC-84CA42C5B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BB39-1E70-4E77-8D83-C3DE953AFBC0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8960" y="1676160"/>
            <a:ext cx="79246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Non-infectious granulomas of the ski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coido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nuloma annul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crobiosis lipoidica diabetic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ial diagno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B</a:t>
            </a: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pros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hen ruber planu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oriasi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nuloma annul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 and 3 stage of syphil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a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2361960"/>
            <a:ext cx="857412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no specific therap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sible spontaneous res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ticosteroid therapy (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system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local,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intrales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TX, hydroxychloroquine, cyclosporine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nuloma anul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ronic, benign dis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clear etiology (insect bite, trauma, viruses?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ly children and adolesc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76680" y="2017800"/>
            <a:ext cx="506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the</a:t>
            </a: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 back of t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ands, feet, elbows, knees, trunk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, solid nodules forming annular or polycyclic fig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7" descr="ANd9GcQ9zqRLj8FcVRMuov486xEhKMLzAMgdm8LwZGRlenxah4VztBz8"/>
          <p:cNvPicPr/>
          <p:nvPr/>
        </p:nvPicPr>
        <p:blipFill>
          <a:blip r:embed="rId1"/>
          <a:stretch/>
        </p:blipFill>
        <p:spPr>
          <a:xfrm>
            <a:off x="5181480" y="1981080"/>
            <a:ext cx="3657600" cy="2143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ANd9GcRN55DBYL2xWTCNi7jH5rO57ueYZ3lMWvV2H3ipSqMgiZw1xQWY"/>
          <p:cNvPicPr/>
          <p:nvPr/>
        </p:nvPicPr>
        <p:blipFill>
          <a:blip r:embed="rId2"/>
          <a:stretch/>
        </p:blipFill>
        <p:spPr>
          <a:xfrm>
            <a:off x="5181480" y="4114800"/>
            <a:ext cx="36576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2280" y="2017800"/>
            <a:ext cx="880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nuloma annulare can occur on any site of the body and is occasionally widespr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 symptoms, but affected areas are often t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laques tend to slowly change shape, size, and positio</a:t>
            </a: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ised </a:t>
            </a: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G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usually affects the fingers or the backs of both hands, but is also common on top of the foot or ankle, and over one or both elb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Content Placeholder 3" descr="Granuloma annulare"/>
          <p:cNvPicPr/>
          <p:nvPr/>
        </p:nvPicPr>
        <p:blipFill>
          <a:blip r:embed="rId1"/>
          <a:srcRect l="0" t="614" r="0" b="25228"/>
          <a:stretch/>
        </p:blipFill>
        <p:spPr>
          <a:xfrm>
            <a:off x="0" y="2590920"/>
            <a:ext cx="3086280" cy="3051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3048120" y="2413080"/>
            <a:ext cx="5943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ised granuloma annulare usually presents in adults, as widespread skin-coloured, pinkish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oured patch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sseminated type is composed of small papules, usually arranged symmetr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Can b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sociat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autoimmune </a:t>
            </a:r>
            <a:r>
              <a:rPr b="0" lang="en-US" sz="2400" spc="-1" strike="noStrike">
                <a:solidFill>
                  <a:srgbClr val="0d0d0d"/>
                </a:solidFill>
                <a:latin typeface="Tahoma"/>
              </a:rPr>
              <a:t>thyroiditis, diabetes mellitus, hyperlipidaemia, and rarely with lymphoma, HIV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ection and solid tumo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itary or generalized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les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stology: granulomas around the foci of incomplete collagen necrosi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g: clinical picture, histolog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Dg: lichen, sarcoidosis, necrobiosis lipoidica, tin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8377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                                    </a:t>
            </a:r>
            <a:br>
              <a:rPr sz="4400"/>
            </a:b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Thera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System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rapy (for generalized forms): dapsone, retinoids, PUV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l therapy: KS ointments (under occlusion), intralesional KS, cryothera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crobiosis lipoidica diabeticor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-90% in diabe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lection places: pretibial, symme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5" descr="ANd9GcR0f9oJsUvk1tkaJGnqW4rhb_XZzhKw-zuiqDl0ZOqgn-re2UasrQ"/>
          <p:cNvPicPr/>
          <p:nvPr/>
        </p:nvPicPr>
        <p:blipFill>
          <a:blip r:embed="rId1"/>
          <a:stretch/>
        </p:blipFill>
        <p:spPr>
          <a:xfrm>
            <a:off x="5181480" y="1905120"/>
            <a:ext cx="3733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odule or macule, pinkish-yellow or dark in color, which merges into oval p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la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er: scleratrophic, yellowish with telangiectasia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rder: raised, firm, erythematous or liv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Picture 5" descr="ANd9GcR0f9oJsUvk1tkaJGnqW4rhb_XZzhKw-zuiqDl0ZOqgn-re2UasrQ"/>
          <p:cNvPicPr/>
          <p:nvPr/>
        </p:nvPicPr>
        <p:blipFill>
          <a:blip r:embed="rId1"/>
          <a:stretch/>
        </p:blipFill>
        <p:spPr>
          <a:xfrm>
            <a:off x="5410080" y="1905120"/>
            <a:ext cx="33530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arcoido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system disease of the skin, mucous membranes and internal orga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tiology is unknown (sarcoid antigen?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versible immune disord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eficiency of cellular immunit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moral immunity is "raised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144760" y="2017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144760" y="415116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Picture 8" descr="ANd9GcT_a5kr5O83tIJhHGo4MV6ICmLAKL2dGfJ-2hSLwxVboTZvlm6Wuw"/>
          <p:cNvPicPr/>
          <p:nvPr/>
        </p:nvPicPr>
        <p:blipFill>
          <a:blip r:embed="rId1"/>
          <a:stretch/>
        </p:blipFill>
        <p:spPr>
          <a:xfrm>
            <a:off x="5410080" y="2057400"/>
            <a:ext cx="3353040" cy="1905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ANd9GcTl4s2QmS3ErePZYpY79NKAF0G87YI8s6MoGuwCQ6G_wDrZIjLZ"/>
          <p:cNvPicPr/>
          <p:nvPr/>
        </p:nvPicPr>
        <p:blipFill>
          <a:blip r:embed="rId2"/>
          <a:stretch/>
        </p:blipFill>
        <p:spPr>
          <a:xfrm>
            <a:off x="5410080" y="4191120"/>
            <a:ext cx="3353040" cy="1981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ANd9GcSaXLUmj5P2q_rRFsBT86X02mx3MMLfXfv2W620YrITfox16ZoV5Q"/>
          <p:cNvPicPr/>
          <p:nvPr/>
        </p:nvPicPr>
        <p:blipFill>
          <a:blip r:embed="rId3"/>
          <a:stretch/>
        </p:blipFill>
        <p:spPr>
          <a:xfrm>
            <a:off x="1219320" y="2286000"/>
            <a:ext cx="32763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280" y="2017440"/>
            <a:ext cx="880272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Clinical 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se: spontaneous resolution (20%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sto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path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y: granulomas in the deeper dermis, with hyaline collagen necrosi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DG: granuloma annulare, sarcoidosis, localized scleroderm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apy: KS locally or 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09480"/>
            <a:ext cx="77929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lcerative dermatoses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efflorescence: ulceration</a:t>
            </a: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 (ulcu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9" descr="ANd9GcS_1qgCH75KhuIF5W06KnhOsrs1nOfEezW6yVFgrmGoBvcXEbSrng"/>
          <p:cNvPicPr/>
          <p:nvPr/>
        </p:nvPicPr>
        <p:blipFill>
          <a:blip r:embed="rId1"/>
          <a:stretch/>
        </p:blipFill>
        <p:spPr>
          <a:xfrm>
            <a:off x="5105520" y="2057400"/>
            <a:ext cx="38098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lcer characterist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iz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p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rrounding ski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Picture 6" descr="ANd9GcSTYKgUH7r2SYGKA6AXB8yRlApvwROyFmi5rihItTcYW4yC0bkD"/>
          <p:cNvPicPr/>
          <p:nvPr/>
        </p:nvPicPr>
        <p:blipFill>
          <a:blip r:embed="rId1"/>
          <a:stretch/>
        </p:blipFill>
        <p:spPr>
          <a:xfrm>
            <a:off x="5410080" y="2133720"/>
            <a:ext cx="3276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iology and differential diagnosis of ulcera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320" y="2133720"/>
            <a:ext cx="91440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eases of the arteries (arterial ulcerations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ronic venous insufficiency (venous ulceration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matological diseas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ection: TB, leprosy, deep mycoses, ecthym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opla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ophic ulcers (malum perforans pedis) Vasculitis (Purpura Henoch-Schoenle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nous ulc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17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ication of varicose veins and HVI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cose vei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enous leg ulcer is the most common type of leg ulcer, accounting for over 90% of all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Picture 10" descr="ANd9GcQYP-LYHdnAw766aECfqc9ohTLlR2SE9DdP7oJzf09qiTIgMOwX"/>
          <p:cNvPicPr/>
          <p:nvPr/>
        </p:nvPicPr>
        <p:blipFill>
          <a:blip r:embed="rId1"/>
          <a:stretch/>
        </p:blipFill>
        <p:spPr>
          <a:xfrm>
            <a:off x="4343400" y="4284720"/>
            <a:ext cx="1676520" cy="2238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ANd9GcTe3CPLpbl1AQVl-F2Bq0ybVWCEGrZAVpRljh903QhO2ilXg12usQ"/>
          <p:cNvPicPr/>
          <p:nvPr/>
        </p:nvPicPr>
        <p:blipFill>
          <a:blip r:embed="rId2"/>
          <a:stretch/>
        </p:blipFill>
        <p:spPr>
          <a:xfrm>
            <a:off x="6248520" y="438156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6" descr="ANd9GcQuGaD7dHxiuxsJA3WPrEBeUq1g8DVsDfaBurU7LcIdA69sa5Tq1g"/>
          <p:cNvPicPr/>
          <p:nvPr/>
        </p:nvPicPr>
        <p:blipFill>
          <a:blip r:embed="rId3"/>
          <a:stretch/>
        </p:blipFill>
        <p:spPr>
          <a:xfrm>
            <a:off x="914400" y="4284720"/>
            <a:ext cx="32576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nous ulc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51920" y="19810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st common type of leg ulcer, accounting for over 90% of all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 symptoms of a venous leg ulcer include pain, itching and swelling in the affected le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coloured or hardened skin around the ulcer, and the sore may produce a foul-smelling dischar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0" descr="ANd9GcSGNF_T2b4neU1Xo36w6aTUj5jAourTICzGJK2LoKWu1sIj_4Rm"/>
          <p:cNvPicPr/>
          <p:nvPr/>
        </p:nvPicPr>
        <p:blipFill>
          <a:blip r:embed="rId1"/>
          <a:stretch/>
        </p:blipFill>
        <p:spPr>
          <a:xfrm>
            <a:off x="3429000" y="2133720"/>
            <a:ext cx="3429000" cy="1828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2" descr="ANd9GcSD0-yzYI_Xj-IDKuNp03Rz6o1bKV8Cir59py9Nr8CnKdmFzZJKxQ"/>
          <p:cNvPicPr/>
          <p:nvPr/>
        </p:nvPicPr>
        <p:blipFill>
          <a:blip r:embed="rId2"/>
          <a:stretch/>
        </p:blipFill>
        <p:spPr>
          <a:xfrm>
            <a:off x="7315200" y="3048120"/>
            <a:ext cx="1542960" cy="2962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ANd9GcSyorD6HD11gtp3Htu3O1Un8r-IAwhq-OdJ3_uNtLpivDx6ZVD1Bw"/>
          <p:cNvPicPr/>
          <p:nvPr/>
        </p:nvPicPr>
        <p:blipFill>
          <a:blip r:embed="rId3"/>
          <a:stretch/>
        </p:blipFill>
        <p:spPr>
          <a:xfrm>
            <a:off x="838080" y="2133720"/>
            <a:ext cx="2467080" cy="1857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6" descr="ANd9GcTTq-pFLrdubN2gFzGt2_zzRev8gQZJK7Vy-7L6bcY4r6mv2WnQ"/>
          <p:cNvPicPr/>
          <p:nvPr/>
        </p:nvPicPr>
        <p:blipFill>
          <a:blip r:embed="rId4"/>
          <a:stretch/>
        </p:blipFill>
        <p:spPr>
          <a:xfrm>
            <a:off x="838080" y="4038480"/>
            <a:ext cx="2638440" cy="1733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8" descr="ANd9GcSsHhjqsjOohgxqBAa0y_7BiHJg0e2PVUxgmb9oC_k0C9TfTePB"/>
          <p:cNvPicPr/>
          <p:nvPr/>
        </p:nvPicPr>
        <p:blipFill>
          <a:blip r:embed="rId5"/>
          <a:stretch/>
        </p:blipFill>
        <p:spPr>
          <a:xfrm>
            <a:off x="4038480" y="4038480"/>
            <a:ext cx="2438640" cy="18766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hronic venous insufficienc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                             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apy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9480" y="1676520"/>
          <a:ext cx="8269560" cy="5352840"/>
        </p:xfrm>
        <a:graphic>
          <a:graphicData uri="http://schemas.openxmlformats.org/drawingml/2006/table">
            <a:tbl>
              <a:tblPr/>
              <a:tblGrid>
                <a:gridCol w="4114800"/>
                <a:gridCol w="4154760"/>
              </a:tblGrid>
              <a:tr h="11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lcer with fibrin depos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zymatic cleaning (fibrolan) Surgical debrid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lcer with exud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t compr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lcer infec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t compr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lfadiazine silver crea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B (+/-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ean</a:t>
                      </a: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bas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ulc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lfadiazine silver cream Hydrocolloid compress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asters according to Guill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in gra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rapy</a:t>
            </a:r>
            <a:r>
              <a:rPr b="0" lang="sr-Latn-RS" sz="3600" spc="-1" strike="noStrike">
                <a:solidFill>
                  <a:srgbClr val="333399"/>
                </a:solidFill>
                <a:latin typeface="Tahoma"/>
              </a:rPr>
              <a:t> – Compression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8720" y="2057040"/>
            <a:ext cx="9124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prove vein circulation in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gs and treat swe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rm compression bandage over the affected leg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courage blood to flow upwards, towards heart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ferent types of bandage or elastic stocking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illed procedure and they should be applied by trained healthcare staff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occurs most often between 40-50 years of ag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kin: specific and non-specific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terial ulc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mic ul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as the result of damage to the arteries due to lack of blood flow to tiss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adequate blood supply to the affected area (ischaemi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d by peripheral artery disease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ake months to heal, if they heal at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terial ulc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s: atherosclerosis, arterial occlusion, embolism, vascular collagen diseases, vasculitis, thromboanginitis oblitera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derly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peo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2280" y="2017800"/>
            <a:ext cx="88027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IN: intermittent claudication Pains in peace They increase when the patient is lying down Patients stay up all nigh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in can be worse at night, and patients hang the leg out of bed or sleep in a chair to get relief from this night pai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KIN: pale, cold, hairless, dystrophic nail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erial pulses are not palp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2017800"/>
            <a:ext cx="51055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ization: foot, lateral sides of the lower leg or area of ​​the malleolu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lceration 3-4 cm deep, covered with a dark necrotic eschar, 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ba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out granula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s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type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ecrot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issue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t is typically dry, black, firm, and usually adhered to the wound bed and ed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varicose vei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ngrene of fingers, feet and/or le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Picture 7" descr="ANd9GcTbqB5nxzvDNcO0rPDEy8Kq-XUzLeDLDT-SgpmMwpSw1RM6iqmfEw"/>
          <p:cNvPicPr/>
          <p:nvPr/>
        </p:nvPicPr>
        <p:blipFill>
          <a:blip r:embed="rId1"/>
          <a:stretch/>
        </p:blipFill>
        <p:spPr>
          <a:xfrm>
            <a:off x="5181480" y="1676520"/>
            <a:ext cx="3657600" cy="1952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DiabeticFootUlcer350w"/>
          <p:cNvPicPr/>
          <p:nvPr/>
        </p:nvPicPr>
        <p:blipFill>
          <a:blip r:embed="rId2"/>
          <a:stretch/>
        </p:blipFill>
        <p:spPr>
          <a:xfrm>
            <a:off x="5181480" y="3657600"/>
            <a:ext cx="36576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52280" y="2017800"/>
            <a:ext cx="880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nched-out look, usually round in shape, with well-defined, even wound marg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ep, often extending down to the underlying tendons, and will frequently display no signs of new tissue grow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 of the wound typically does not bleed, and is yellow, brown, grey or black in col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a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76320" y="1218960"/>
            <a:ext cx="9220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rimary goal is to increase circulation to the area, either surgically or med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Systrmic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eatment: Pentoxifylli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l treatment: wound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dres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rgical options range fro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vascularization to ampu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difying contributing factors can slow or stop the progression of the local ischem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lum perforans ped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s: diabetic neuropathy and neuropathies of other etiolog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tion: fe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lum perforans ped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nically: Limited hyperkeratotic pla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lceration in the center of the plaqu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INLESS, does not epitheliz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apy: underlying dise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Picture 8" descr="1655-f11"/>
          <p:cNvPicPr/>
          <p:nvPr/>
        </p:nvPicPr>
        <p:blipFill>
          <a:blip r:embed="rId1"/>
          <a:stretch/>
        </p:blipFill>
        <p:spPr>
          <a:xfrm>
            <a:off x="5334120" y="2057400"/>
            <a:ext cx="3429000" cy="23432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footulcers"/>
          <p:cNvPicPr/>
          <p:nvPr/>
        </p:nvPicPr>
        <p:blipFill>
          <a:blip r:embed="rId2"/>
          <a:stretch/>
        </p:blipFill>
        <p:spPr>
          <a:xfrm>
            <a:off x="4419720" y="4419720"/>
            <a:ext cx="4572000" cy="22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rbus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ynau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: sensitivity of arteries to col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 the hands, less often the fee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e stages: 1. pale and cold ski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anotic skin 3.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tive hyperem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cour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chronic, it can lead to trophic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le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2209320"/>
            <a:ext cx="647712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Specif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Polymorphic- papules, nodules, infiltrated plaques =&gt; sca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upus perni</a:t>
            </a:r>
            <a:r>
              <a:rPr b="0" i="1" lang="sr-Latn-R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cutaneous manifestation of sarcoidosis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t presents as a violaceous lesion or shiny nodules over the head and neck but is predominantly localized to the nose, cheeks, and ears.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upus pernio can present either as an isolated skin lesion or it can be an early manifestation of systemic sarcoidosi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Non-specif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rythema nodosum (30%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rg_hi" descr="ANd9GcQqquOJ6WTB6zWVivmRdmLqs-vtqKRk0fGyJJzPXcM4_4jHcH-N1A"/>
          <p:cNvPicPr/>
          <p:nvPr/>
        </p:nvPicPr>
        <p:blipFill>
          <a:blip r:embed="rId1"/>
          <a:stretch/>
        </p:blipFill>
        <p:spPr>
          <a:xfrm>
            <a:off x="6629400" y="3200400"/>
            <a:ext cx="22096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144760" y="415116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rg_hi" descr="ANd9GcQkSo7007mNGad2-MSDJE7cnhiw4RJHlXGn3oKIzCUXK7qWi-jMHg"/>
          <p:cNvPicPr/>
          <p:nvPr/>
        </p:nvPicPr>
        <p:blipFill>
          <a:blip r:embed="rId1"/>
          <a:stretch/>
        </p:blipFill>
        <p:spPr>
          <a:xfrm>
            <a:off x="990720" y="1828800"/>
            <a:ext cx="3733560" cy="2133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ANd9GcQ_DhYqPNMct3aZ7NU7802WTfgf42QtKWPfKtzTTWzzMNiBCRsv"/>
          <p:cNvPicPr/>
          <p:nvPr/>
        </p:nvPicPr>
        <p:blipFill>
          <a:blip r:embed="rId2"/>
          <a:stretch/>
        </p:blipFill>
        <p:spPr>
          <a:xfrm>
            <a:off x="5029200" y="1828800"/>
            <a:ext cx="3733920" cy="2209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ANd9GcRxs8P6y6mTPq_ft4aCqOWutt_6ykxljWmiXFouHK38153v_cJ_"/>
          <p:cNvPicPr/>
          <p:nvPr/>
        </p:nvPicPr>
        <p:blipFill>
          <a:blip r:embed="rId3"/>
          <a:stretch/>
        </p:blipFill>
        <p:spPr>
          <a:xfrm>
            <a:off x="1523880" y="4038480"/>
            <a:ext cx="2819520" cy="2590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fig6"/>
          <p:cNvPicPr/>
          <p:nvPr/>
        </p:nvPicPr>
        <p:blipFill>
          <a:blip r:embed="rId4"/>
          <a:stretch/>
        </p:blipFill>
        <p:spPr>
          <a:xfrm>
            <a:off x="4648320" y="4191120"/>
            <a:ext cx="4267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cous membranes (nodules and plaques): conjunctiva, nasal, tonsils, et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al organs: lungs (80-100%), bones (5%), eyes, parotid glands, lacrimal and salivary glands (Mikulice syndrome), enlarged lymph glands, CNS and all other internal orga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182600" y="2017800"/>
          <a:ext cx="7772400" cy="41940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Lungs</a:t>
                      </a:r>
                      <a:r>
                        <a:rPr b="0" lang="sr-C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kin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Clinical </a:t>
                      </a:r>
                      <a:r>
                        <a:rPr b="0" lang="sr-Latn-RS" sz="20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c</a:t>
                      </a: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ourse</a:t>
                      </a:r>
                      <a:r>
                        <a:rPr b="0" lang="sr-Latn-RS" sz="20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stage: Mediastinal lymph gl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rythema nodos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ontaneous re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ond stage: Parenchymatous 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pules and nodu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ften spontaneous resolution Incomplete reg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ird stage: Pulmonary fibr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upus per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rreversible 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stopath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bare granuloma" without caseous necro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5" descr="Figure 1Spectrum of Pathological Findings in Patients with Sarcoidosis."/>
          <p:cNvPicPr/>
          <p:nvPr/>
        </p:nvPicPr>
        <p:blipFill>
          <a:blip r:embed="rId1"/>
          <a:stretch/>
        </p:blipFill>
        <p:spPr>
          <a:xfrm>
            <a:off x="4648320" y="1828800"/>
            <a:ext cx="4232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agno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fin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berculin test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 - neg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m's test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negati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E 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cemia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curia 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in immunoelectrophoresis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ed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 I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ray of the lungs 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- 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ar adenopathy, parenchymatous 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le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ray of the hand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teitis cyst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stopathology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bare granuloma" without caseous necro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09:26:39Z</dcterms:created>
  <dc:creator>XP</dc:creator>
  <dc:description/>
  <dc:language>en-US</dc:language>
  <cp:lastModifiedBy>korisnik</cp:lastModifiedBy>
  <dcterms:modified xsi:type="dcterms:W3CDTF">2023-08-19T16:31:50Z</dcterms:modified>
  <cp:revision>94</cp:revision>
  <dc:subject/>
  <dc:title>Неинфективни грануломи коже</dc:title>
</cp:coreProperties>
</file>